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image12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16FC-A49A-41FA-869B-7E871B6C96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2516-B8AE-41EB-BC67-D3ED03600A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549C-FE3C-4FD5-9D32-9ADE04AB5B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E7B8-4DC3-494C-8D46-F571CDCD0F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CAE7-5AE6-4438-A287-1D197896BB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2943-BDA2-4124-AC3D-93C35ADC7C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EBE7-9C79-4DA0-9173-F2458947D0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C893-5721-4684-83DD-4E807767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73B1-717B-4BE0-916A-DB691CEF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FFFA-9E64-4E82-98D6-1D2A9BC7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99E2-1941-4847-AC06-2507E045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5556-F0EB-4241-9AA0-DC76DC29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340E-5FAE-4A08-BE5E-205377D8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9D4C-642D-4EF1-9167-B06A59FD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4CE9-5F4E-42DA-96DD-A26CE047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DAB-E956-4C2B-B27E-DD593E7A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4B11-9E5F-49CC-ABF2-FDCBE70E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4E77-10BB-4898-AC3F-5598720E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0472-A43C-4B6F-99F6-E4564949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9E2B-F53B-4006-95D1-A85D447C3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Fish, Amphibians, Reptiles, </a:t>
            </a:r>
            <a:br>
              <a:rPr sz="3500"/>
            </a:b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Birds, &amp; Mammal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8680" y="2743200"/>
            <a:ext cx="24386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B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Mrs. Meredith Sa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an02542_"/>
          <p:cNvPicPr/>
          <p:nvPr/>
        </p:nvPicPr>
        <p:blipFill>
          <a:blip r:embed="rId1"/>
          <a:stretch/>
        </p:blipFill>
        <p:spPr>
          <a:xfrm>
            <a:off x="2057400" y="5029200"/>
            <a:ext cx="1676520" cy="16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an02097_"/>
          <p:cNvPicPr/>
          <p:nvPr/>
        </p:nvPicPr>
        <p:blipFill>
          <a:blip r:embed="rId2"/>
          <a:stretch/>
        </p:blipFill>
        <p:spPr>
          <a:xfrm>
            <a:off x="152280" y="2666880"/>
            <a:ext cx="1938600" cy="226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an01124_"/>
          <p:cNvPicPr/>
          <p:nvPr/>
        </p:nvPicPr>
        <p:blipFill>
          <a:blip r:embed="rId3"/>
          <a:stretch/>
        </p:blipFill>
        <p:spPr>
          <a:xfrm>
            <a:off x="4419720" y="5141880"/>
            <a:ext cx="1409760" cy="1716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262889"/>
          <p:cNvPicPr/>
          <p:nvPr/>
        </p:nvPicPr>
        <p:blipFill>
          <a:blip r:embed="rId4"/>
          <a:stretch/>
        </p:blipFill>
        <p:spPr>
          <a:xfrm>
            <a:off x="7696080" y="4952880"/>
            <a:ext cx="1270080" cy="1905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pe02661_"/>
          <p:cNvPicPr/>
          <p:nvPr/>
        </p:nvPicPr>
        <p:blipFill>
          <a:blip r:embed="rId5"/>
          <a:stretch/>
        </p:blipFill>
        <p:spPr>
          <a:xfrm>
            <a:off x="0" y="5059440"/>
            <a:ext cx="1593720" cy="1798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an00682_"/>
          <p:cNvPicPr/>
          <p:nvPr/>
        </p:nvPicPr>
        <p:blipFill>
          <a:blip r:embed="rId6"/>
          <a:stretch/>
        </p:blipFill>
        <p:spPr>
          <a:xfrm>
            <a:off x="2514600" y="2971800"/>
            <a:ext cx="2444760" cy="17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762120" y="152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Times New Roman"/>
              </a:rPr>
              <a:t>Vertebra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F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mbers in their heart: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s for movement: F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oduction: Lay eggs in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 that keeps them afloat: Swim blad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dy temperature:  Cold-bloo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the: Through g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j0405036"/>
          <p:cNvPicPr/>
          <p:nvPr/>
        </p:nvPicPr>
        <p:blipFill>
          <a:blip r:embed="rId1"/>
          <a:stretch/>
        </p:blipFill>
        <p:spPr>
          <a:xfrm>
            <a:off x="5715000" y="457200"/>
            <a:ext cx="2579760" cy="1725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j0403911"/>
          <p:cNvPicPr/>
          <p:nvPr/>
        </p:nvPicPr>
        <p:blipFill>
          <a:blip r:embed="rId2"/>
          <a:stretch/>
        </p:blipFill>
        <p:spPr>
          <a:xfrm>
            <a:off x="6781680" y="4800600"/>
            <a:ext cx="1619280" cy="1676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j0406858"/>
          <p:cNvPicPr/>
          <p:nvPr/>
        </p:nvPicPr>
        <p:blipFill>
          <a:blip r:embed="rId3"/>
          <a:stretch/>
        </p:blipFill>
        <p:spPr>
          <a:xfrm>
            <a:off x="914400" y="380880"/>
            <a:ext cx="228600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Amphibi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 part of their lives in water and part on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have scales or 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have tails throughout life and some lose their tail (Salamanders have tail throughout life; frogs lose their tails when they get to be ad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ecilians have no lim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gs have smooth, moist skin; Toads have rough, dry sk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ts have tails throughout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hibians use color as camouflage and also to warn others of their d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hibians burrow in the mud during winter and absorb oxygen through their sk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bd08718_"/>
          <p:cNvPicPr/>
          <p:nvPr/>
        </p:nvPicPr>
        <p:blipFill>
          <a:blip r:embed="rId1"/>
          <a:stretch/>
        </p:blipFill>
        <p:spPr>
          <a:xfrm>
            <a:off x="5943600" y="0"/>
            <a:ext cx="76032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j0150339"/>
          <p:cNvPicPr/>
          <p:nvPr/>
        </p:nvPicPr>
        <p:blipFill>
          <a:blip r:embed="rId2"/>
          <a:stretch/>
        </p:blipFill>
        <p:spPr>
          <a:xfrm>
            <a:off x="7475400" y="5719680"/>
            <a:ext cx="1668600" cy="1138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j0406963"/>
          <p:cNvPicPr/>
          <p:nvPr/>
        </p:nvPicPr>
        <p:blipFill>
          <a:blip r:embed="rId3"/>
          <a:stretch/>
        </p:blipFill>
        <p:spPr>
          <a:xfrm>
            <a:off x="7010280" y="228600"/>
            <a:ext cx="1712880" cy="1712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j0409215"/>
          <p:cNvPicPr/>
          <p:nvPr/>
        </p:nvPicPr>
        <p:blipFill>
          <a:blip r:embed="rId4"/>
          <a:stretch/>
        </p:blipFill>
        <p:spPr>
          <a:xfrm>
            <a:off x="380880" y="30492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ering:Dry protective scales or p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limbs with clawed 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tles that live in water have flippers instead of clawed 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reptiles:crocodiles and allig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gs are leath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j0313902"/>
          <p:cNvPicPr/>
          <p:nvPr/>
        </p:nvPicPr>
        <p:blipFill>
          <a:blip r:embed="rId1"/>
          <a:stretch/>
        </p:blipFill>
        <p:spPr>
          <a:xfrm>
            <a:off x="5715000" y="380880"/>
            <a:ext cx="1752480" cy="139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j0314286"/>
          <p:cNvPicPr/>
          <p:nvPr/>
        </p:nvPicPr>
        <p:blipFill>
          <a:blip r:embed="rId2"/>
          <a:stretch/>
        </p:blipFill>
        <p:spPr>
          <a:xfrm>
            <a:off x="4343400" y="5105520"/>
            <a:ext cx="1752480" cy="76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j0262753"/>
          <p:cNvPicPr/>
          <p:nvPr/>
        </p:nvPicPr>
        <p:blipFill>
          <a:blip r:embed="rId3"/>
          <a:stretch/>
        </p:blipFill>
        <p:spPr>
          <a:xfrm>
            <a:off x="6477120" y="5181480"/>
            <a:ext cx="2209680" cy="147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j0406730"/>
          <p:cNvPicPr/>
          <p:nvPr/>
        </p:nvPicPr>
        <p:blipFill>
          <a:blip r:embed="rId4"/>
          <a:stretch/>
        </p:blipFill>
        <p:spPr>
          <a:xfrm>
            <a:off x="7848720" y="0"/>
            <a:ext cx="1295280" cy="1941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PH02096J"/>
          <p:cNvPicPr/>
          <p:nvPr/>
        </p:nvPicPr>
        <p:blipFill>
          <a:blip r:embed="rId5"/>
          <a:stretch/>
        </p:blipFill>
        <p:spPr>
          <a:xfrm>
            <a:off x="457200" y="304920"/>
            <a:ext cx="190512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Bi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ody Temperature: warm-blood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own feathers to keep war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tour feathers to f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Getting oxygen: though lungs and air sac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uscles used to fly: Chest musc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ree ways that flying is useful: escape predators, find food, and migra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daptations for flight: tiny holes in bones to make them lighter, streamlined shape, lightweight beak, &amp; no teet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j0406520"/>
          <p:cNvPicPr/>
          <p:nvPr/>
        </p:nvPicPr>
        <p:blipFill>
          <a:blip r:embed="rId1"/>
          <a:stretch/>
        </p:blipFill>
        <p:spPr>
          <a:xfrm>
            <a:off x="5943600" y="22860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j0406517"/>
          <p:cNvPicPr/>
          <p:nvPr/>
        </p:nvPicPr>
        <p:blipFill>
          <a:blip r:embed="rId2"/>
          <a:stretch/>
        </p:blipFill>
        <p:spPr>
          <a:xfrm>
            <a:off x="1600200" y="0"/>
            <a:ext cx="1270080" cy="190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j0406859"/>
          <p:cNvPicPr/>
          <p:nvPr/>
        </p:nvPicPr>
        <p:blipFill>
          <a:blip r:embed="rId3"/>
          <a:stretch/>
        </p:blipFill>
        <p:spPr>
          <a:xfrm>
            <a:off x="6781680" y="23623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Mam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mbers in heart: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mmary glands to give milk to 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live bi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otremes: lay eg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supials:pouched mammals that give live birth and babies crawl into pouches until mat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ntals: give live birth; baby attached with umbilic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8:04:23Z</dcterms:created>
  <dc:creator>Pam Tucker</dc:creator>
  <dc:description/>
  <dc:language>en-US</dc:language>
  <cp:lastModifiedBy>RK</cp:lastModifiedBy>
  <dcterms:modified xsi:type="dcterms:W3CDTF">2015-12-11T14:28:59Z</dcterms:modified>
  <cp:revision>11</cp:revision>
  <dc:subject/>
  <dc:title>Fish, Amphibians, Reptiles,  Birds, &amp; Mammals</dc:title>
</cp:coreProperties>
</file>